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2FA99-18A4-4A4F-99D6-3CC19F924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50941-2073-409B-9FE4-340E6B1F2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1C2AD-3F95-4579-A057-695D56CED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C4276-06FE-446F-85D4-F5C2403D0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422404-0079-4399-948B-0FBD9CFD998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4A5217-5806-4A7C-8918-F02EBF45F6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85503B-36BE-43D5-80F5-DB1B30AF61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58EFAA-B833-47AE-AA45-75C65A62F8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29F0B4-1BE3-48FD-A18B-0B15F551FE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F9C1AD-5C6B-423F-8491-CC2DAF33CB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B6C34-750B-44CE-B38F-B39B188B5F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5197A-94DF-4699-9A94-198A78369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5FC056-DE59-42A9-9631-84AE6B438B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34F09-323E-426B-AB9A-BCC39DEC8B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C0BD4D-194E-4685-BCB4-E1E0F6EB7D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BCC4F4-EB40-424B-8477-DC6A377A870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F10100-53FD-41B7-A5F4-6181DC6D9A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6216F-A4EE-42D2-85D6-930864E4C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0D816-8F18-4221-A868-5CF6A6B8F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7FF09-9040-4CE4-8BA8-AC9421763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E1BA4-AA2B-488F-BA1C-682D7A8C1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D0A7A-21FA-4803-88C7-54AB5BEB4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77760-5CCC-4779-8116-CDDF86187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CF9F8-1815-4F75-9D74-7AD915C57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DF8F-58B5-4E1D-9256-6E0000388C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B371-D062-46B9-8EB1-EF7987E920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8.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image" Target="../media/image8.jpeg"/><Relationship Id="rId5" Type="http://schemas.openxmlformats.org/officeDocument/2006/relationships/image" Target="../media/image15.jpeg"/><Relationship Id="rId6"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2209680"/>
            <a:ext cx="9144000" cy="4648320"/>
          </a:xfrm>
          <a:prstGeom prst="rect">
            <a:avLst/>
          </a:prstGeom>
          <a:ln w="0">
            <a:noFill/>
          </a:ln>
        </p:spPr>
      </p:pic>
      <p:sp>
        <p:nvSpPr>
          <p:cNvPr id="84" name=""/>
          <p:cNvSpPr/>
          <p:nvPr/>
        </p:nvSpPr>
        <p:spPr>
          <a:xfrm>
            <a:off x="304920" y="3049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0" y="0"/>
            <a:ext cx="9144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lation 12:1 – And there appeared a great  wonder in heaven; a woman clothed with the sun, and the moon under her feet, and upon her head a crown of twelve sta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se 2 – And she being with child cried, travailing in birth, and pained to be delivered.</a:t>
            </a:r>
            <a:endParaRPr b="0" lang="en-US" sz="2400" spc="-1" strike="noStrike">
              <a:solidFill>
                <a:srgbClr val="ffffff"/>
              </a:solidFill>
              <a:latin typeface="Arial"/>
            </a:endParaRPr>
          </a:p>
        </p:txBody>
      </p:sp>
      <p:sp>
        <p:nvSpPr>
          <p:cNvPr id="86" name=""/>
          <p:cNvSpPr/>
          <p:nvPr/>
        </p:nvSpPr>
        <p:spPr>
          <a:xfrm>
            <a:off x="380880" y="5562720"/>
            <a:ext cx="3124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on Represents the old Testament times prior to Christ.  </a:t>
            </a:r>
            <a:endParaRPr b="0" lang="en-US" sz="2000" spc="-1" strike="noStrike">
              <a:solidFill>
                <a:srgbClr val="ffffff"/>
              </a:solidFill>
              <a:latin typeface="Arial"/>
            </a:endParaRPr>
          </a:p>
        </p:txBody>
      </p:sp>
      <p:sp>
        <p:nvSpPr>
          <p:cNvPr id="87" name=""/>
          <p:cNvSpPr/>
          <p:nvPr/>
        </p:nvSpPr>
        <p:spPr>
          <a:xfrm>
            <a:off x="6477120" y="2895480"/>
            <a:ext cx="2666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Woman is clothed with the sun representing New Testatment times after Christ.</a:t>
            </a:r>
            <a:endParaRPr b="0" lang="en-US" sz="2400" spc="-1" strike="noStrike">
              <a:solidFill>
                <a:srgbClr val="ffffff"/>
              </a:solidFill>
              <a:latin typeface="Arial"/>
            </a:endParaRPr>
          </a:p>
        </p:txBody>
      </p:sp>
      <p:sp>
        <p:nvSpPr>
          <p:cNvPr id="88" name=""/>
          <p:cNvSpPr/>
          <p:nvPr/>
        </p:nvSpPr>
        <p:spPr>
          <a:xfrm>
            <a:off x="1371600" y="243828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Crown of 12 stars represents the leadership of the new church ( 12 Apost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0" y="0"/>
            <a:ext cx="9144000" cy="6858000"/>
          </a:xfrm>
          <a:prstGeom prst="rect">
            <a:avLst/>
          </a:prstGeom>
          <a:ln w="0">
            <a:noFill/>
          </a:ln>
        </p:spPr>
      </p:pic>
      <p:sp>
        <p:nvSpPr>
          <p:cNvPr id="105" name=""/>
          <p:cNvSpPr/>
          <p:nvPr/>
        </p:nvSpPr>
        <p:spPr>
          <a:xfrm>
            <a:off x="5029200" y="4724280"/>
            <a:ext cx="4114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lation 12:5 - And her child was caught up unto God, and to his throne.</a:t>
            </a:r>
            <a:endParaRPr b="0" lang="en-US" sz="2800" spc="-1" strike="noStrike">
              <a:solidFill>
                <a:srgbClr val="ffffff"/>
              </a:solidFill>
              <a:latin typeface="Arial"/>
            </a:endParaRPr>
          </a:p>
        </p:txBody>
      </p:sp>
      <p:sp>
        <p:nvSpPr>
          <p:cNvPr id="106" name=""/>
          <p:cNvSpPr/>
          <p:nvPr/>
        </p:nvSpPr>
        <p:spPr>
          <a:xfrm>
            <a:off x="6477120" y="380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esus Chri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28600" y="1294920"/>
            <a:ext cx="8540640" cy="44960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notice where in time the vision locates the reader in verse 5 (previous slide) – after the death, resurrection, and ascension of Jesus into heave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xt verse, covered in the next slide,  moves the reader hundreds of years into the future during the 1260 days/yea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58000"/>
          </a:xfrm>
          <a:prstGeom prst="rect">
            <a:avLst/>
          </a:prstGeom>
          <a:ln w="0">
            <a:noFill/>
          </a:ln>
        </p:spPr>
      </p:pic>
      <p:pic>
        <p:nvPicPr>
          <p:cNvPr id="109" name="" descr=""/>
          <p:cNvPicPr/>
          <p:nvPr/>
        </p:nvPicPr>
        <p:blipFill>
          <a:blip r:embed="rId3"/>
          <a:stretch/>
        </p:blipFill>
        <p:spPr>
          <a:xfrm>
            <a:off x="1143000" y="3809880"/>
            <a:ext cx="914400" cy="2743200"/>
          </a:xfrm>
          <a:prstGeom prst="rect">
            <a:avLst/>
          </a:prstGeom>
          <a:ln w="0">
            <a:noFill/>
          </a:ln>
        </p:spPr>
      </p:pic>
      <p:sp>
        <p:nvSpPr>
          <p:cNvPr id="110" name=""/>
          <p:cNvSpPr/>
          <p:nvPr/>
        </p:nvSpPr>
        <p:spPr>
          <a:xfrm>
            <a:off x="2666880" y="380880"/>
            <a:ext cx="5486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 12:6  And the woman fled into the wilderness where she hath a place prepared of God, that they should feed her there a thousand two hundred and threescore day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xt verse, shown in the next slide, moves the reader back to the beginning of sin in heaven, before the creation of life on earth, and gives a very brief history.  More information on this can be found in an allegory of Satan through the character of the king or princes of Tyre in Ezekiel 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57200" y="0"/>
            <a:ext cx="4800600" cy="6858000"/>
          </a:xfrm>
          <a:prstGeom prst="rect">
            <a:avLst/>
          </a:prstGeom>
          <a:ln w="0">
            <a:noFill/>
          </a:ln>
        </p:spPr>
      </p:pic>
      <p:pic>
        <p:nvPicPr>
          <p:cNvPr id="113" name="" descr=""/>
          <p:cNvPicPr/>
          <p:nvPr/>
        </p:nvPicPr>
        <p:blipFill>
          <a:blip r:embed="rId2"/>
          <a:stretch/>
        </p:blipFill>
        <p:spPr>
          <a:xfrm>
            <a:off x="4343400" y="0"/>
            <a:ext cx="4800600" cy="2577960"/>
          </a:xfrm>
          <a:prstGeom prst="rect">
            <a:avLst/>
          </a:prstGeom>
          <a:ln w="0">
            <a:noFill/>
          </a:ln>
        </p:spPr>
      </p:pic>
      <p:sp>
        <p:nvSpPr>
          <p:cNvPr id="114" name=""/>
          <p:cNvSpPr/>
          <p:nvPr/>
        </p:nvSpPr>
        <p:spPr>
          <a:xfrm>
            <a:off x="4648320" y="2971800"/>
            <a:ext cx="449568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Rev 12:7 - And there was war in heaven:  Michael and His angel’s fought against the dragon; and the dragon fought  and his angels,  Verse 8 - and prevailed not; neither was there a place found any more in heaven.  Verse 9 - And the dragon was cast out, that old serpent called the Devil  and Satan, which deceiveth the whole world:  he was cast out into the earth, and his angels were cast out with hi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37160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xt verse informs the reader that in spite of this battle between evil and good, the good has triumphed by the death of Christ, and salvation is now available to all who will accept it.  Satan was defeated by Jesus at the cross, and as a result, has been once and for all sent away from the presence of God, where he constantly accused the people of God for their si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6" name=""/>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evelation 12:10   And I heard a loud voice saying in heaven, Now is come salvation, and strength, and the kingdom of our God, and the power of his Christ: For the accuser of our brethren is cast down, which accused them before our God day and night.</a:t>
            </a:r>
            <a:endParaRPr b="0" lang="en-US" sz="2800" spc="-1" strike="noStrike">
              <a:solidFill>
                <a:srgbClr val="ffffff"/>
              </a:solidFill>
              <a:latin typeface="Arial"/>
            </a:endParaRPr>
          </a:p>
        </p:txBody>
      </p:sp>
      <p:pic>
        <p:nvPicPr>
          <p:cNvPr id="117" name="" descr=""/>
          <p:cNvPicPr/>
          <p:nvPr/>
        </p:nvPicPr>
        <p:blipFill>
          <a:blip r:embed="rId1"/>
          <a:stretch/>
        </p:blipFill>
        <p:spPr>
          <a:xfrm>
            <a:off x="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1600200"/>
            <a:ext cx="9144000" cy="5257800"/>
          </a:xfrm>
          <a:prstGeom prst="rect">
            <a:avLst/>
          </a:prstGeom>
          <a:ln w="0">
            <a:noFill/>
          </a:ln>
        </p:spPr>
      </p:pic>
      <p:sp>
        <p:nvSpPr>
          <p:cNvPr id="119"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ev 12:11  And they overcame him by the blood of the Lamb, and by the word of their testimony; and they loved not their lives unto the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523880"/>
            <a:ext cx="9144000" cy="5334120"/>
          </a:xfrm>
          <a:prstGeom prst="rect">
            <a:avLst/>
          </a:prstGeom>
          <a:ln w="0">
            <a:noFill/>
          </a:ln>
        </p:spPr>
      </p:pic>
      <p:sp>
        <p:nvSpPr>
          <p:cNvPr id="121" name=""/>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v 12:12  Therefore rejoice ye heavens, and ye that dwell in them.  Woe to the inhabitants of the earth and of the sea!  For the devil is come down unto you , having great wrath, because he knoweth that he hath but a short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4724280"/>
          </a:xfrm>
          <a:prstGeom prst="rect">
            <a:avLst/>
          </a:prstGeom>
          <a:ln w="0">
            <a:noFill/>
          </a:ln>
        </p:spPr>
      </p:pic>
      <p:sp>
        <p:nvSpPr>
          <p:cNvPr id="123" name=""/>
          <p:cNvSpPr/>
          <p:nvPr/>
        </p:nvSpPr>
        <p:spPr>
          <a:xfrm>
            <a:off x="0" y="4800600"/>
            <a:ext cx="91440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ev 12:13 And when the dragon saw that he was cast unto the earth, he persecuted the woman which brought forth the man child.  (Pagan  Rome persecuting the christian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905120" y="1219320"/>
            <a:ext cx="3582720" cy="3344760"/>
          </a:xfrm>
          <a:prstGeom prst="rect">
            <a:avLst/>
          </a:prstGeom>
          <a:ln w="0">
            <a:noFill/>
          </a:ln>
        </p:spPr>
      </p:pic>
      <p:sp>
        <p:nvSpPr>
          <p:cNvPr id="90"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ice the forward motion in time as seen in symbols of the woman standing on the moon she is clothed with the sun and wears a crown of 12 stars.</a:t>
            </a: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91" name=""/>
          <p:cNvSpPr/>
          <p:nvPr/>
        </p:nvSpPr>
        <p:spPr>
          <a:xfrm>
            <a:off x="0" y="456876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woman stands on the moon and is clothed with the sun.  As the moon shines by reflected sunlight, so the Old Testament reflects the glory of Christ, who is the “sun” of the New Testament.  The Old Testament is but a shadow of things to come, which is the body of Christ (the New Testament).  God set up ceremonies in the old Testament times designed to help people remember that Christ was to come as the Messiah and die for their sins.  These were shadowy types (symbols) of the reality to come, which was the body of Christ (think of a person standing in the sunlight and the shadow the body of this person casts on the ground because of the sunlight).</a:t>
            </a:r>
            <a:endParaRPr b="0" lang="en-US" sz="1800" spc="-1" strike="noStrike">
              <a:solidFill>
                <a:srgbClr val="ffffff"/>
              </a:solidFill>
              <a:latin typeface="Arial"/>
            </a:endParaRPr>
          </a:p>
        </p:txBody>
      </p:sp>
      <p:sp>
        <p:nvSpPr>
          <p:cNvPr id="92" name=""/>
          <p:cNvSpPr/>
          <p:nvPr/>
        </p:nvSpPr>
        <p:spPr>
          <a:xfrm>
            <a:off x="5791320" y="3200400"/>
            <a:ext cx="3047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woman was clothed with the sun, representing the glory of the Gospel times.</a:t>
            </a:r>
            <a:endParaRPr b="0" lang="en-US" sz="2000" spc="-1" strike="noStrike">
              <a:solidFill>
                <a:srgbClr val="ffffff"/>
              </a:solidFill>
              <a:latin typeface="Arial"/>
            </a:endParaRPr>
          </a:p>
        </p:txBody>
      </p:sp>
      <p:sp>
        <p:nvSpPr>
          <p:cNvPr id="93" name=""/>
          <p:cNvSpPr/>
          <p:nvPr/>
        </p:nvSpPr>
        <p:spPr>
          <a:xfrm>
            <a:off x="5791320" y="1295280"/>
            <a:ext cx="2819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rown of 12 stars represents the leadership of the new Gospel church in the 12 apost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12952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 When did the dragon come to understand that he was “cast out” of heave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fore answering the question above, consider that the immediate result of Satan’s discovery was that he began persecuting the woma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04920" y="456840"/>
            <a:ext cx="8229600" cy="6095880"/>
          </a:xfrm>
          <a:prstGeom prst="rect">
            <a:avLst/>
          </a:prstGeom>
          <a:noFill/>
          <a:ln w="0">
            <a:noFill/>
          </a:ln>
        </p:spPr>
        <p:txBody>
          <a:bodyPr lIns="90000" rIns="90000" tIns="46800" bIns="46800" anchor="t">
            <a:normAutofit/>
          </a:bodyPr>
          <a:p>
            <a:pPr marL="380880" indent="-380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nswer to the question on the previous slide is found in verse 13.  Note that it said the dragon persecuted the woman who “brought forth the man child”, which is Jesus.</a:t>
            </a:r>
            <a:r>
              <a:rPr b="0" lang="en-US" sz="2000" spc="-1" strike="noStrike">
                <a:solidFill>
                  <a:srgbClr val="ffffff"/>
                </a:solidFill>
                <a:latin typeface="Tahoma"/>
              </a:rPr>
              <a:t>  </a:t>
            </a:r>
            <a:r>
              <a:rPr b="1" lang="en-US" sz="2000" spc="-1" strike="noStrike">
                <a:solidFill>
                  <a:srgbClr val="ffffff"/>
                </a:solidFill>
                <a:latin typeface="Tahoma"/>
              </a:rPr>
              <a:t>Thus, this discovery had to occur AFTER the cross.  </a:t>
            </a:r>
            <a:endParaRPr b="0" lang="en-US" sz="2000" spc="-1" strike="noStrike">
              <a:solidFill>
                <a:srgbClr val="ffffff"/>
              </a:solidFill>
              <a:latin typeface="Tahoma"/>
            </a:endParaRPr>
          </a:p>
          <a:p>
            <a:pPr marL="380880" indent="-380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elation 12 shows us that there are two events of casting Satan out of heaven.</a:t>
            </a:r>
            <a:r>
              <a:rPr b="0" lang="en-US" sz="2000" spc="-1" strike="noStrike">
                <a:solidFill>
                  <a:srgbClr val="ffffff"/>
                </a:solidFill>
                <a:latin typeface="Tahoma"/>
              </a:rPr>
              <a:t>  </a:t>
            </a:r>
            <a:endParaRPr b="0" lang="en-US" sz="2000" spc="-1" strike="noStrike">
              <a:solidFill>
                <a:srgbClr val="ffffff"/>
              </a:solidFill>
              <a:latin typeface="Tahom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8002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first casting out is when Satan and his angels are physically removed from heaven so that they no longer have a home there.  By causing man to sin, they found a home on this world.  But they continued to have access to God and the other beings in heaven.  Evidence for this is found in Job 1 – 2, Revelation 12:7 – 9, and Ezekiel 28 (an allegory of Satan).</a:t>
            </a:r>
            <a:endParaRPr b="0" lang="en-US" sz="2000" spc="-1" strike="noStrike">
              <a:solidFill>
                <a:srgbClr val="ffffff"/>
              </a:solidFill>
              <a:latin typeface="Tahoma"/>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8002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second casting out occurred when Satan was blocked from access to God and the angels inside heaven itself.  Evidence for this is found in Revelation 12:10 – 13.</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990720"/>
            <a:ext cx="82296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s to ponde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would Satan no longer be allowed access to God and other beings inside of heaven after the cros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why would this happen only after the cross?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was his access to God and the other beings in heaven not blocked long before the cro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80880" y="1066320"/>
            <a:ext cx="7925040" cy="44960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at in the next verse, covered in the next slide, as a result of the persecution that the woman experiences, she flees to the wilderness for 1260 prophetic days.  The 1260 days began in 538 AD.</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persecution BEFORE the 1260 days begins.  But the legal power brought against the woman (explained later), which defined the start and end of the 1260 prophetic days, is what causes her to hide in the wildern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29" name="" descr=""/>
          <p:cNvPicPr/>
          <p:nvPr/>
        </p:nvPicPr>
        <p:blipFill>
          <a:blip r:embed="rId1"/>
          <a:stretch/>
        </p:blipFill>
        <p:spPr>
          <a:xfrm>
            <a:off x="0" y="0"/>
            <a:ext cx="9144000" cy="4724280"/>
          </a:xfrm>
          <a:prstGeom prst="rect">
            <a:avLst/>
          </a:prstGeom>
          <a:ln w="0">
            <a:noFill/>
          </a:ln>
        </p:spPr>
      </p:pic>
      <p:pic>
        <p:nvPicPr>
          <p:cNvPr id="130" name="" descr=""/>
          <p:cNvPicPr/>
          <p:nvPr/>
        </p:nvPicPr>
        <p:blipFill>
          <a:blip r:embed="rId2"/>
          <a:stretch/>
        </p:blipFill>
        <p:spPr>
          <a:xfrm>
            <a:off x="1371600" y="2806560"/>
            <a:ext cx="571680" cy="1557360"/>
          </a:xfrm>
          <a:prstGeom prst="rect">
            <a:avLst/>
          </a:prstGeom>
          <a:ln w="0">
            <a:noFill/>
          </a:ln>
        </p:spPr>
      </p:pic>
      <p:sp>
        <p:nvSpPr>
          <p:cNvPr id="131" name=""/>
          <p:cNvSpPr/>
          <p:nvPr/>
        </p:nvSpPr>
        <p:spPr>
          <a:xfrm>
            <a:off x="0" y="4724280"/>
            <a:ext cx="9144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ev 12:14 - And to the woman were given two wings of an eagle, that she might fly into the wilderness, into her place, where she is nourished for a time, and times, and half a time, from the face of the servant. (1260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2190600" y="3105000"/>
            <a:ext cx="571680" cy="1714680"/>
          </a:xfrm>
          <a:prstGeom prst="rect">
            <a:avLst/>
          </a:prstGeom>
          <a:ln w="0">
            <a:noFill/>
          </a:ln>
        </p:spPr>
      </p:pic>
      <p:pic>
        <p:nvPicPr>
          <p:cNvPr id="133" name="" descr=""/>
          <p:cNvPicPr/>
          <p:nvPr/>
        </p:nvPicPr>
        <p:blipFill>
          <a:blip r:embed="rId3"/>
          <a:stretch/>
        </p:blipFill>
        <p:spPr>
          <a:xfrm>
            <a:off x="5105520" y="0"/>
            <a:ext cx="4038480" cy="3809880"/>
          </a:xfrm>
          <a:prstGeom prst="rect">
            <a:avLst/>
          </a:prstGeom>
          <a:ln w="0">
            <a:noFill/>
          </a:ln>
        </p:spPr>
      </p:pic>
      <p:sp>
        <p:nvSpPr>
          <p:cNvPr id="134" name=""/>
          <p:cNvSpPr/>
          <p:nvPr/>
        </p:nvSpPr>
        <p:spPr>
          <a:xfrm>
            <a:off x="3124080" y="4191120"/>
            <a:ext cx="5639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2:15 - And the serpent cast out of his mouth water as a flood after the woman, that he might cause her to be carried away of the flo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809880" y="380880"/>
            <a:ext cx="2895840" cy="2819520"/>
          </a:xfrm>
          <a:prstGeom prst="rect">
            <a:avLst/>
          </a:prstGeom>
          <a:ln w="0">
            <a:noFill/>
          </a:ln>
        </p:spPr>
      </p:pic>
      <p:pic>
        <p:nvPicPr>
          <p:cNvPr id="136" name="" descr=""/>
          <p:cNvPicPr/>
          <p:nvPr/>
        </p:nvPicPr>
        <p:blipFill>
          <a:blip r:embed="rId3"/>
          <a:stretch/>
        </p:blipFill>
        <p:spPr>
          <a:xfrm>
            <a:off x="1371600" y="2820960"/>
            <a:ext cx="571680" cy="1711440"/>
          </a:xfrm>
          <a:prstGeom prst="rect">
            <a:avLst/>
          </a:prstGeom>
          <a:ln w="0">
            <a:noFill/>
          </a:ln>
        </p:spPr>
      </p:pic>
      <p:pic>
        <p:nvPicPr>
          <p:cNvPr id="137" name="" descr=""/>
          <p:cNvPicPr/>
          <p:nvPr/>
        </p:nvPicPr>
        <p:blipFill>
          <a:blip r:embed="rId4"/>
          <a:stretch/>
        </p:blipFill>
        <p:spPr>
          <a:xfrm>
            <a:off x="228600" y="4495680"/>
            <a:ext cx="2997360" cy="1765440"/>
          </a:xfrm>
          <a:prstGeom prst="rect">
            <a:avLst/>
          </a:prstGeom>
          <a:ln w="0">
            <a:noFill/>
          </a:ln>
        </p:spPr>
      </p:pic>
      <p:sp>
        <p:nvSpPr>
          <p:cNvPr id="138" name=""/>
          <p:cNvSpPr/>
          <p:nvPr/>
        </p:nvSpPr>
        <p:spPr>
          <a:xfrm>
            <a:off x="3352680" y="3733920"/>
            <a:ext cx="5791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 12:16 - And the earth helped the woman, and the earth opened her mouth, and swallowed up the flood which the dragon cast out of his mou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990720" y="1295280"/>
            <a:ext cx="3504960" cy="2514600"/>
          </a:xfrm>
          <a:prstGeom prst="rect">
            <a:avLst/>
          </a:prstGeom>
          <a:ln w="0">
            <a:noFill/>
          </a:ln>
        </p:spPr>
      </p:pic>
      <p:pic>
        <p:nvPicPr>
          <p:cNvPr id="140" name="" descr=""/>
          <p:cNvPicPr/>
          <p:nvPr/>
        </p:nvPicPr>
        <p:blipFill>
          <a:blip r:embed="rId3"/>
          <a:stretch/>
        </p:blipFill>
        <p:spPr>
          <a:xfrm>
            <a:off x="5945040" y="0"/>
            <a:ext cx="3198960" cy="3048120"/>
          </a:xfrm>
          <a:prstGeom prst="rect">
            <a:avLst/>
          </a:prstGeom>
          <a:ln w="0">
            <a:noFill/>
          </a:ln>
        </p:spPr>
      </p:pic>
      <p:pic>
        <p:nvPicPr>
          <p:cNvPr id="141" name="" descr=""/>
          <p:cNvPicPr/>
          <p:nvPr/>
        </p:nvPicPr>
        <p:blipFill>
          <a:blip r:embed="rId4"/>
          <a:stretch/>
        </p:blipFill>
        <p:spPr>
          <a:xfrm>
            <a:off x="460440" y="3606840"/>
            <a:ext cx="550800" cy="1595520"/>
          </a:xfrm>
          <a:prstGeom prst="rect">
            <a:avLst/>
          </a:prstGeom>
          <a:ln w="0">
            <a:noFill/>
          </a:ln>
        </p:spPr>
      </p:pic>
      <p:pic>
        <p:nvPicPr>
          <p:cNvPr id="142" name="" descr=""/>
          <p:cNvPicPr/>
          <p:nvPr/>
        </p:nvPicPr>
        <p:blipFill>
          <a:blip r:embed="rId5"/>
          <a:stretch/>
        </p:blipFill>
        <p:spPr>
          <a:xfrm>
            <a:off x="0" y="5092560"/>
            <a:ext cx="2997360" cy="1765440"/>
          </a:xfrm>
          <a:prstGeom prst="rect">
            <a:avLst/>
          </a:prstGeom>
          <a:ln w="0">
            <a:noFill/>
          </a:ln>
        </p:spPr>
      </p:pic>
      <p:sp>
        <p:nvSpPr>
          <p:cNvPr id="143" name=""/>
          <p:cNvSpPr/>
          <p:nvPr/>
        </p:nvSpPr>
        <p:spPr>
          <a:xfrm>
            <a:off x="838080" y="6858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en commandments God gave Moses on Mt. Sinai.</a:t>
            </a:r>
            <a:endParaRPr b="0" lang="en-US" sz="1800" spc="-1" strike="noStrike">
              <a:solidFill>
                <a:srgbClr val="ffffff"/>
              </a:solidFill>
              <a:latin typeface="Arial"/>
            </a:endParaRPr>
          </a:p>
        </p:txBody>
      </p:sp>
      <p:sp>
        <p:nvSpPr>
          <p:cNvPr id="144" name=""/>
          <p:cNvSpPr/>
          <p:nvPr/>
        </p:nvSpPr>
        <p:spPr>
          <a:xfrm>
            <a:off x="3352680" y="4495680"/>
            <a:ext cx="5791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 12:17 - And the dragon was wroth with the woman and went to make war with the remnant of her seed that keep the commandments of God and have the testimony of Jesus Christ.</a:t>
            </a:r>
            <a:endParaRPr b="0" lang="en-US" sz="2400" spc="-1" strike="noStrike">
              <a:solidFill>
                <a:srgbClr val="ffffff"/>
              </a:solidFill>
              <a:latin typeface="Arial"/>
            </a:endParaRPr>
          </a:p>
        </p:txBody>
      </p:sp>
      <p:sp>
        <p:nvSpPr>
          <p:cNvPr id="145" name=""/>
          <p:cNvSpPr/>
          <p:nvPr/>
        </p:nvSpPr>
        <p:spPr>
          <a:xfrm>
            <a:off x="5943600" y="3048120"/>
            <a:ext cx="3200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Dragon is Satan the devil working through political powers to destroy God’s people.</a:t>
            </a:r>
            <a:endParaRPr b="0" lang="en-US" sz="2000" spc="-1" strike="noStrike">
              <a:solidFill>
                <a:srgbClr val="ffffff"/>
              </a:solidFill>
              <a:latin typeface="Arial"/>
            </a:endParaRPr>
          </a:p>
        </p:txBody>
      </p:sp>
      <p:sp>
        <p:nvSpPr>
          <p:cNvPr id="146" name=""/>
          <p:cNvSpPr/>
          <p:nvPr/>
        </p:nvSpPr>
        <p:spPr>
          <a:xfrm>
            <a:off x="914400" y="41148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oman represents God’s true peo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3429000"/>
            <a:ext cx="9144000" cy="4495680"/>
          </a:xfrm>
          <a:prstGeom prst="rect">
            <a:avLst/>
          </a:prstGeom>
          <a:ln w="0">
            <a:noFill/>
          </a:ln>
        </p:spPr>
      </p:pic>
      <p:sp>
        <p:nvSpPr>
          <p:cNvPr id="148" name=""/>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otice the forward motion in time with the body of the dragon.  First comes the tail as it drags 1/3 of the stars from heaven, representing that Satan took 1/3 of the angels in heaven with him.  The war began in heaven (Revelation 7-9) so the tail represents the time period from the time sin originated in heaven and probably extending to Pagan and Papal Rome.</a:t>
            </a:r>
            <a:endParaRPr b="0" lang="en-US" sz="2800" spc="-1" strike="noStrike">
              <a:solidFill>
                <a:srgbClr val="ffffff"/>
              </a:solidFill>
              <a:latin typeface="Arial"/>
            </a:endParaRPr>
          </a:p>
        </p:txBody>
      </p:sp>
      <p:sp>
        <p:nvSpPr>
          <p:cNvPr id="149" name=""/>
          <p:cNvSpPr/>
          <p:nvPr/>
        </p:nvSpPr>
        <p:spPr>
          <a:xfrm>
            <a:off x="7162920" y="4937040"/>
            <a:ext cx="19810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Tail comes first in time as 1/3 of the angels are cast out of heav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3048120"/>
            <a:ext cx="9144000" cy="3809880"/>
          </a:xfrm>
          <a:prstGeom prst="rect">
            <a:avLst/>
          </a:prstGeom>
          <a:ln w="0">
            <a:noFill/>
          </a:ln>
        </p:spPr>
      </p:pic>
      <p:sp>
        <p:nvSpPr>
          <p:cNvPr id="151" name=""/>
          <p:cNvSpPr/>
          <p:nvPr/>
        </p:nvSpPr>
        <p:spPr>
          <a:xfrm>
            <a:off x="0" y="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fter 1/3 of the angels are cast out of heaven, the dragon (Satan) is cast to earth (this is the first casting out).  Later he attempts to kill Christ at birth through Pagan Rome at the time of Herod.  Rev 12:4.  Next, after being permanently cast out of heaven (the second casting out), Satan attempts to destroy the church of God during the time of the apostles through Pagan Rome as he persecuted the church that brought forth the man child.  Rev 12: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29528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ward motion in time is represented with this symbol in a manner similar to how the beasts of Daniel are done, but in the opposite direction to that of the image of Daniel 2.</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e the earlier times are represented by the lower parts of the symbol (the moon with the feet standing on it), while the later times are represented by the body and head symbolism (the sun for clothing and the crown of stars upon the he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934320" y="0"/>
            <a:ext cx="2209680" cy="4343400"/>
          </a:xfrm>
          <a:prstGeom prst="rect">
            <a:avLst/>
          </a:prstGeom>
          <a:ln w="0">
            <a:noFill/>
          </a:ln>
        </p:spPr>
      </p:pic>
      <p:pic>
        <p:nvPicPr>
          <p:cNvPr id="153" name="" descr=""/>
          <p:cNvPicPr/>
          <p:nvPr/>
        </p:nvPicPr>
        <p:blipFill>
          <a:blip r:embed="rId2"/>
          <a:stretch/>
        </p:blipFill>
        <p:spPr>
          <a:xfrm>
            <a:off x="0" y="5334120"/>
            <a:ext cx="9144000" cy="1523880"/>
          </a:xfrm>
          <a:prstGeom prst="rect">
            <a:avLst/>
          </a:prstGeom>
          <a:ln w="0">
            <a:noFill/>
          </a:ln>
        </p:spPr>
      </p:pic>
      <p:pic>
        <p:nvPicPr>
          <p:cNvPr id="154" name="" descr=""/>
          <p:cNvPicPr/>
          <p:nvPr/>
        </p:nvPicPr>
        <p:blipFill>
          <a:blip r:embed="rId3"/>
          <a:stretch/>
        </p:blipFill>
        <p:spPr>
          <a:xfrm>
            <a:off x="8153280" y="5410080"/>
            <a:ext cx="571680" cy="1447920"/>
          </a:xfrm>
          <a:prstGeom prst="rect">
            <a:avLst/>
          </a:prstGeom>
          <a:ln w="0">
            <a:noFill/>
          </a:ln>
        </p:spPr>
      </p:pic>
      <p:sp>
        <p:nvSpPr>
          <p:cNvPr id="155" name=""/>
          <p:cNvSpPr/>
          <p:nvPr/>
        </p:nvSpPr>
        <p:spPr>
          <a:xfrm>
            <a:off x="0" y="0"/>
            <a:ext cx="6858000" cy="5317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ime, after Pagan Rome came Papal  Rome. Papal Rome, just like Pagan Rome, proved to be a persecutor of Christians, and also did so at the instigation of Satan (Revelation 12:13 – 16; 13:2).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an was given the credit for what Pagan and Papal Rome did, because what they did, Revelation 12 and 13 says the dragon did.  Satan instigated them to do certain things, but he was given the credit for what they did because of his role.  Of course, nobody saw him personally doing any of the things he is given credit for doing (such as standing in front of the woman to snatch the child).  Consequently,  at least part of the body of the dragon represents the time during which Satan instigated these powers to persecute the woman.  This must be true because the tail represented the time of war in heaven and the heads and horns represent time that follows Papal Rome (1798), so the body must represent time between that of the tail and the heads and horn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dragon is the only prophetic beast in either Daniel or Revelation in which the tail plays a symbolic part.  </a:t>
            </a:r>
            <a:endParaRPr b="0" lang="en-US" sz="1800" spc="-1" strike="noStrike">
              <a:solidFill>
                <a:srgbClr val="ffffff"/>
              </a:solidFill>
              <a:latin typeface="Arial"/>
            </a:endParaRPr>
          </a:p>
        </p:txBody>
      </p:sp>
      <p:sp>
        <p:nvSpPr>
          <p:cNvPr id="156" name=""/>
          <p:cNvSpPr/>
          <p:nvPr/>
        </p:nvSpPr>
        <p:spPr>
          <a:xfrm>
            <a:off x="1447920" y="5638680"/>
            <a:ext cx="594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d’s people flee into the wilderness for 1260 years as the Papal power is decreed by law  (Justinian’s decree written in 533 AD) from 538-179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man fled into the wilderness for 1260 prophetic years where she was to be nourished away from the face of the serpent (the dragon does NOT follow her into the wilderness). The 1260 prophetic years is mentioned 7 time’s in Daniel and Revelation because it is so significant.  But how do we know when it began and ended?  </a:t>
            </a:r>
            <a:endParaRPr b="0" lang="en-US" sz="2000" spc="-1" strike="noStrike">
              <a:solidFill>
                <a:srgbClr val="ffffff"/>
              </a:solidFill>
              <a:latin typeface="Tahoma"/>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iel 7 tells us the following criteria are to be used to determine the starting date:</a:t>
            </a:r>
            <a:endParaRPr b="0" lang="en-US" sz="2000" spc="-1" strike="noStrike">
              <a:solidFill>
                <a:srgbClr val="ffffff"/>
              </a:solidFill>
              <a:latin typeface="Tahoma"/>
            </a:endParaRPr>
          </a:p>
          <a:p>
            <a:pPr marL="343080" indent="-343080">
              <a:lnSpc>
                <a:spcPct val="80000"/>
              </a:lnSpc>
              <a:spcBef>
                <a:spcPts val="125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readful 4</a:t>
            </a:r>
            <a:r>
              <a:rPr b="0" lang="en-US" sz="2000" spc="-1" strike="noStrike" baseline="30000">
                <a:solidFill>
                  <a:srgbClr val="ffffff"/>
                </a:solidFill>
                <a:latin typeface="Arial"/>
              </a:rPr>
              <a:t>th</a:t>
            </a:r>
            <a:r>
              <a:rPr b="0" lang="en-US" sz="2000" spc="-1" strike="noStrike">
                <a:solidFill>
                  <a:srgbClr val="ffffff"/>
                </a:solidFill>
                <a:latin typeface="Arial"/>
              </a:rPr>
              <a:t> beast of Daniel 7 made the transition to the 10 horns.  This happened in 476 AD when Rome fell.  This also gives us a reference date by which to judge the events that are to follow.</a:t>
            </a:r>
            <a:endParaRPr b="0" lang="en-US" sz="2000" spc="-1" strike="noStrike">
              <a:solidFill>
                <a:srgbClr val="ffffff"/>
              </a:solidFill>
              <a:latin typeface="Tahoma"/>
            </a:endParaRPr>
          </a:p>
          <a:p>
            <a:pPr marL="343080" indent="-343080">
              <a:lnSpc>
                <a:spcPct val="80000"/>
              </a:lnSpc>
              <a:spcBef>
                <a:spcPts val="125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ttle horn arises AFTER the 10 horns begin to have power.</a:t>
            </a:r>
            <a:endParaRPr b="0" lang="en-US" sz="2000" spc="-1" strike="noStrike">
              <a:solidFill>
                <a:srgbClr val="ffffff"/>
              </a:solidFill>
              <a:latin typeface="Tahoma"/>
            </a:endParaRPr>
          </a:p>
          <a:p>
            <a:pPr marL="343080" indent="-343080">
              <a:lnSpc>
                <a:spcPct val="80000"/>
              </a:lnSpc>
              <a:spcBef>
                <a:spcPts val="125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of the ten horns were uprooted through the influence of the little horn on the head of the dreadful and terrible beast.   The Arians, who opposed the pope, were the Vandal’s, Heruli, and Ostrogoths.  To eliminate opposition to the pope, these three were removed.  The Heruli were removed from Rome in 493 AD.  The Vandals were destroyed as a people in 533 AD.  The Ostrogoths were removed from Rome in 538 AD, and mostly destroyed as a people in 556 AD.</a:t>
            </a:r>
            <a:endParaRPr b="0" lang="en-US" sz="2000" spc="-1" strike="noStrike">
              <a:solidFill>
                <a:srgbClr val="ffffff"/>
              </a:solidFill>
              <a:latin typeface="Tahoma"/>
            </a:endParaRPr>
          </a:p>
          <a:p>
            <a:pPr marL="343080" indent="-343080">
              <a:lnSpc>
                <a:spcPct val="80000"/>
              </a:lnSpc>
              <a:spcBef>
                <a:spcPts val="125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aints were to be given into the hand of the little horn for a period of 1260 prophetic days.  Historically, the decree of Justinian, written in 533 and implemented in 538, gave the pope the power required by the prophecy.  The exact powers given were that the pope became head bishop over all Christian bishops and he had the power to punish heresy, which he defined as he wished and punished through the sta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880" y="0"/>
            <a:ext cx="8229600" cy="685800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te the following.</a:t>
            </a:r>
            <a:endParaRPr b="0" lang="en-US" sz="2000" spc="-1" strike="noStrike">
              <a:solidFill>
                <a:srgbClr val="ffffff"/>
              </a:solidFill>
              <a:latin typeface="Tahoma"/>
            </a:endParaRPr>
          </a:p>
          <a:p>
            <a:pPr marL="343080" indent="-343080">
              <a:lnSpc>
                <a:spcPct val="80000"/>
              </a:lnSpc>
              <a:spcBef>
                <a:spcPts val="12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 decree began the 1260 years.  Though that decree was written in 533 AD, it could not be implemented until Justinian controlled Rome and his decree could be enforced by the pope at will outside of Rome, a condition that became possible in 538 AD when the Ostrogoths gave up their siege of Rome and were driven away.</a:t>
            </a:r>
            <a:endParaRPr b="0" lang="en-US" sz="2000" spc="-1" strike="noStrike">
              <a:solidFill>
                <a:srgbClr val="ffffff"/>
              </a:solidFill>
              <a:latin typeface="Tahoma"/>
            </a:endParaRPr>
          </a:p>
          <a:p>
            <a:pPr marL="343080" indent="-343080">
              <a:lnSpc>
                <a:spcPct val="80000"/>
              </a:lnSpc>
              <a:spcBef>
                <a:spcPts val="12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ogically, if a decree begins the 1260 prophetic years, a decree should also end this prophetic period.  This is exactly what happened.  The French army under the command of General Berthier, stormed Rome and took it on February 10, 1798, and on February 15, 1798, General Berthier wrote a decree ending the civil government of the Papacy.  This largely ended the control the Papacy had over the kings of Europe and it’s ability to persecute “heretics”. Prior to the 1798 decree, as head of the church to which all the European kings belonged, the pope had control of the kings of Europe, but that decree ended this control.</a:t>
            </a:r>
            <a:endParaRPr b="0" lang="en-US" sz="2000" spc="-1" strike="noStrike">
              <a:solidFill>
                <a:srgbClr val="ffffff"/>
              </a:solidFill>
              <a:latin typeface="Tahoma"/>
            </a:endParaRPr>
          </a:p>
          <a:p>
            <a:pPr marL="343080" indent="-343080">
              <a:lnSpc>
                <a:spcPct val="80000"/>
              </a:lnSpc>
              <a:spcBef>
                <a:spcPts val="12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 a decree began the 1260 prophetic years and a decree ended this time period.</a:t>
            </a:r>
            <a:endParaRPr b="0" lang="en-US" sz="2000" spc="-1" strike="noStrike">
              <a:solidFill>
                <a:srgbClr val="ffffff"/>
              </a:solidFill>
              <a:latin typeface="Tahoma"/>
            </a:endParaRPr>
          </a:p>
          <a:p>
            <a:pPr marL="343080" indent="-343080">
              <a:lnSpc>
                <a:spcPct val="80000"/>
              </a:lnSpc>
              <a:spcBef>
                <a:spcPts val="12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ach time you see this 1260 days in Scripture (which may be written as 1260 days, 42 months, or a time, times, and half a time or 3 ½ - 360 day prophetic years), remember that it refers to the decreed rule of the Papal power from 538 - 1798.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80880" y="304560"/>
            <a:ext cx="8229600" cy="60195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hing to think about:</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es the wilderness symbolize in Revelation 12 and 17?</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swer: both the wilderness and the abyss symbolize a prison, or a restraint upon a power.  Why this is true will be covered in another study.  But, you don’t need your Greek-English dictionary to understand the wilderness and abyss.  The Bible defines these terms for y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elation 12, 13, and 17 have 3 beasts which each have seven heads and ten horns upon their heads.</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is only one explanation of the seven heads and ten horns in all of Revelation, and that is in Revelation 17.</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there is only one explanation, the heads and horns must be the same on all three beasts.  IF this is not true, then you have the explanation of the heads and horns for only one beast, and are left to guess the interpretation of the other two.</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something so very important, do you honestly believe that God intends us to guess at the interpretation of the heads and horns of the other two beasts?</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n that the dragon is credited with the activities of Pagan and Papal Rome, does it not stand to reason that he would also receive credit for the heads and horns of the other beasts as well?  Thus his heads and horns are the same as their heads and horns.  All three sets of heads and horns are one and the sa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61" name=""/>
          <p:cNvSpPr/>
          <p:nvPr/>
        </p:nvSpPr>
        <p:spPr>
          <a:xfrm>
            <a:off x="0" y="609480"/>
            <a:ext cx="9144000" cy="5595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98 ends the phase of the Papacy’s decreed power. For 1260 years the Papacy has ruled under the power given to it by the decree of Justinian, written in 533 and becoming effective in 538. In 1798, God restrained the Papacy’s power.  About this same time, America was coming to power as pilgrims fled to America for religious freedom.</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niel 7 tells us that the little horn will be in power for 1260 years.  It calls this little horn a “king”, just like the other 10 kings.  This is God’s definition.  But this horn remained a king only until 1798, at which time his dominion was removed (Daniel 7:24 – 26).  By 1798, this king, or horn, had passed it’s time in history  and was no longer in power.  A new day of history had dawned upon Europe, and the one king of the Papacy was replaced by 7 kings.  Again, this is God’s definition.</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 also that Daniel 7 defines a king to be a line of kings.  See Daniel 7:24 and remember that each of the 10 kings (except for the three removed) started a line of kings that went on for a number of generations.  This same definition should be used where “kings” occurs in Revelation for the Bible should explain itsel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457200"/>
            <a:ext cx="8229600" cy="601992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the decreed end of the Papal power in 1798, then comes the time of the seven heads of the Papal power.  The names of those seven heads of papal power were:</a:t>
            </a:r>
            <a:endParaRPr b="0" lang="en-US" sz="2400" spc="-1" strike="noStrike">
              <a:solidFill>
                <a:srgbClr val="ffffff"/>
              </a:solidFill>
              <a:latin typeface="Tahoma"/>
            </a:endParaRPr>
          </a:p>
          <a:p>
            <a:pPr marL="603360" indent="-603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Pius   2. Leo   3. Gregory   4. Benedict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5. John   6. Paul   7. John Paul</a:t>
            </a:r>
            <a:endParaRPr b="0" lang="en-US" sz="2400" spc="-1" strike="noStrike">
              <a:solidFill>
                <a:srgbClr val="ffffff"/>
              </a:solidFill>
              <a:latin typeface="Tahoma"/>
            </a:endParaRPr>
          </a:p>
          <a:p>
            <a:pPr marL="603360" indent="-603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rowns on the heads symbolizes that the heads have kingly power, while their presence on the dragon indicates that the dragon dominates or controls the heads during their time of power</a:t>
            </a:r>
            <a:endParaRPr b="0" lang="en-US" sz="2400" spc="-1" strike="noStrike">
              <a:solidFill>
                <a:srgbClr val="ffffff"/>
              </a:solidFill>
              <a:latin typeface="Tahoma"/>
            </a:endParaRPr>
          </a:p>
          <a:p>
            <a:pPr marL="603360" indent="-603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uring the phase of the 7 Papal Monarchy names above, we will see a separation of church and state.  But when the 7th Papal name since 1798 dies and we see the church elect an 8th Papal name, then history will change again and the last church and state system will rise onto the world’s stage.</a:t>
            </a:r>
            <a:endParaRPr b="0" lang="en-US" sz="2400" spc="-1" strike="noStrike">
              <a:solidFill>
                <a:srgbClr val="ffffff"/>
              </a:solidFill>
              <a:latin typeface="Tahoma"/>
            </a:endParaRPr>
          </a:p>
          <a:p>
            <a:pPr marL="603360" indent="-603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s last church and state system is represented in prophecy by the 10 horns on the dragon.</a:t>
            </a:r>
            <a:endParaRPr b="0" lang="en-US" sz="2400" spc="-1" strike="noStrike">
              <a:solidFill>
                <a:srgbClr val="ffffff"/>
              </a:solidFill>
              <a:latin typeface="Tahoma"/>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3" name=""/>
          <p:cNvSpPr/>
          <p:nvPr/>
        </p:nvSpPr>
        <p:spPr>
          <a:xfrm>
            <a:off x="0" y="0"/>
            <a:ext cx="9144000" cy="577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The ten horns on the dragon represents the time when war is made on the remnant of God’s people Rev 12:17.  Again the Bible explains the Bible as we see in Revelation 17.  The ten horns are a  confederation of protestants that  give their power and authority to the Papal power to make war on God’s people.  We see this war in Revelation 13 as the earth beast (USA) enforces worship of the first beast (papal).  Here we see Sunday as the child of the Papal power.  The entire world is commanded to worship the Papal beast in the form of Sunday law enforcement.  You will not be able to buy or sell, and finally a death decree is passed against all who refuse to obey.  The entire world is to come against all who refuse to honor Sunda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This same war occurs in Revelation 17 when the 10 horns give their power to the scarlet beast.  But, Revelation 17 adds one more detail: Jesus will win this w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28600" y="0"/>
            <a:ext cx="86868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62120" y="0"/>
            <a:ext cx="8229600" cy="68580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side will you be on in the last conflict?  Your eternal destiny will be in the balance when that time arrives.  Just before Jesus comes again, the last conflict between Christ and Satan will take place, an event soon to occur.  There won’t be much time to decide once that time comes.  The 8</a:t>
            </a:r>
            <a:r>
              <a:rPr b="0" lang="en-US" sz="3200" spc="-1" strike="noStrike" baseline="30000">
                <a:solidFill>
                  <a:srgbClr val="ffffff"/>
                </a:solidFill>
                <a:latin typeface="Tahoma"/>
              </a:rPr>
              <a:t>th</a:t>
            </a:r>
            <a:r>
              <a:rPr b="0" lang="en-US" sz="3200" spc="-1" strike="noStrike">
                <a:solidFill>
                  <a:srgbClr val="ffffff"/>
                </a:solidFill>
                <a:latin typeface="Tahoma"/>
              </a:rPr>
              <a:t>, as the Bible calls the last pope, will not live out his natural lifespan, but will die when Jesus come again.</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if the Holy Spirit moves you to accept the offer of salvation from Jesus today, please accept it - now.  You will be glad you di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533520"/>
            <a:ext cx="82296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man herself is a familiar symbol to the Jewish people of John’s day.  God made reference to the people as his wife in Isaiah 54:5</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phesians 5:23 makes reference to Christ as the head of the church as the man is head of his wife.  This indirectly compares Christ to being the husband of the church, which makes the church his “wif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elation 19:7 – 8 makes it clear that those who are the saints are the bride of Christ, thus comparing them to a pure woman who is clothed with righteousnes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elation 21 makes reference to the New Jerusalem as the bride, but in Bible symbols, the city is often seen as the symbol of the people who live there.  Thus, this would be seen as a symbol of the saints who are going to live there in the earth made new, which in turn would be the bride of Christ just as much as the city itself.</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us, it is logical to conclude that the pure woman of Revelation 12 is in fact the church from the time of Jesus onwar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xt slide shows that the vision places the reader far back in history, before the creation of life on this world, with the dragon appearing and taking a third of the angels (stars – see Revelation 1:20) of heaven with his tai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sp>
        <p:nvSpPr>
          <p:cNvPr id="98" name=""/>
          <p:cNvSpPr/>
          <p:nvPr/>
        </p:nvSpPr>
        <p:spPr>
          <a:xfrm>
            <a:off x="5029200" y="3733920"/>
            <a:ext cx="411480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 12:3 - And there appeared another  wonder in heaven; and behold a great red dragon, having seven heads and ten horns, and seven crowns upon his heads. Verse 4 - And this tail drew the third of the stars of heaven, and did cast them to the ear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6019920" y="3505320"/>
            <a:ext cx="31240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Rev 12:4 - And the dragon stood before the woman  which was ready to be delivered, for to devour her child as soon as it was bo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78f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219320"/>
            <a:ext cx="8540640" cy="44956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ice where the previous slide locates the reader in time – at the birth of Jesus!  It is very important to notice this point.  So, time has moved far forward from the previous vers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ild this woman gives birth to must represent Jesus because it says he is caught up to the throne of God.  No other person could fulfill that ro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0" y="0"/>
            <a:ext cx="9144000" cy="8405640"/>
          </a:xfrm>
          <a:prstGeom prst="rect">
            <a:avLst/>
          </a:prstGeom>
          <a:ln w="0">
            <a:noFill/>
          </a:ln>
        </p:spPr>
      </p:pic>
      <p:sp>
        <p:nvSpPr>
          <p:cNvPr id="103" name=""/>
          <p:cNvSpPr/>
          <p:nvPr/>
        </p:nvSpPr>
        <p:spPr>
          <a:xfrm>
            <a:off x="457200" y="380880"/>
            <a:ext cx="3657600" cy="2653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velation 12:5  - And she brought forth a man child  who was to rule all nations with a rod of iron</a:t>
            </a:r>
            <a:r>
              <a:rPr b="1" lang="en-US" sz="2400" spc="-1" strike="noStrike">
                <a:solidFill>
                  <a:srgbClr val="cc33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6:55:21Z</dcterms:created>
  <dc:creator>Ron Johnston</dc:creator>
  <dc:description/>
  <dc:language>en-US</dc:language>
  <cp:lastModifiedBy>Wendell E. Slattery</cp:lastModifiedBy>
  <dcterms:modified xsi:type="dcterms:W3CDTF">2004-03-12T00:47:43Z</dcterms:modified>
  <cp:revision>73</cp:revision>
  <dc:subject/>
  <dc:title>Slide 1</dc:title>
</cp:coreProperties>
</file>